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wmf" ContentType="image/x-wmf"/>
  <Override PartName="/ppt/media/image1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A6B-0A0E-409A-83F2-2951F7EF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901-D17F-4D53-B568-8A7F8CC0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344-13AF-4BA8-B364-A958BE1F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09B-2F5E-4B8A-AFB2-C21358B6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873A-C3F9-4213-88DC-9A4BA128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AC3-D2C2-490D-8A82-22362C19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14FD-7721-430D-AC19-825E144C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1AF5-4085-4D15-ADA3-3FDF6E30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D70E-B0D7-44BF-B6E8-FC481405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F9BF-6911-4182-B83D-36B1CAE2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6DC1-957A-4FD7-A50F-1A45686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319-5A18-4134-BECC-C8808DE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BF5F-3A36-4CB2-A0BB-5F9B70B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4944-A9FB-4983-8333-45B3563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852A-78EA-4258-AF3B-14BCDCBC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7FCC-6A35-4F5D-9DDE-283561F3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631D-FCB8-496F-BB5F-AC51572E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615-8129-4364-ADD9-1A6F5546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53F-2FCF-4C36-8275-6641B835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AE1-2E12-4BBA-A335-06E7808D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1ED-9457-4883-B4B5-7444DFEB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E38-FEC5-4059-BCF5-F27A614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A69-E8BB-4FAD-8414-093C0B38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F63-40A4-4E83-B821-0D007D56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C0DF-1DAE-4C1E-96A2-35AF866C7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AF87-BC00-44CB-8EA6-A3F6B4476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ИРИНА\Desktop\Безимени-1.jpg"/>
          <p:cNvPicPr/>
          <p:nvPr/>
        </p:nvPicPr>
        <p:blipFill>
          <a:blip r:embed="rId1"/>
          <a:stretch/>
        </p:blipFill>
        <p:spPr>
          <a:xfrm>
            <a:off x="3186000" y="1643040"/>
            <a:ext cx="2786040" cy="278604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6"/>
          <p:cNvGrpSpPr/>
          <p:nvPr/>
        </p:nvGrpSpPr>
        <p:grpSpPr>
          <a:xfrm>
            <a:off x="285840" y="1643040"/>
            <a:ext cx="8535960" cy="2786040"/>
            <a:chOff x="285840" y="1643040"/>
            <a:chExt cx="8535960" cy="2786040"/>
          </a:xfrm>
        </p:grpSpPr>
        <p:pic>
          <p:nvPicPr>
            <p:cNvPr id="84" name="Picture 4" descr=""/>
            <p:cNvPicPr/>
            <p:nvPr/>
          </p:nvPicPr>
          <p:blipFill>
            <a:blip r:embed="rId2"/>
            <a:stretch/>
          </p:blipFill>
          <p:spPr>
            <a:xfrm>
              <a:off x="285840" y="1643040"/>
              <a:ext cx="281304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6" descr=""/>
            <p:cNvPicPr/>
            <p:nvPr/>
          </p:nvPicPr>
          <p:blipFill>
            <a:blip r:embed="rId3"/>
            <a:stretch/>
          </p:blipFill>
          <p:spPr>
            <a:xfrm>
              <a:off x="6071760" y="1643040"/>
              <a:ext cx="2750040" cy="278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вук с компакт-диска 1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Users\ИРИНА\Desktop\nasekomye_037.wmf"/>
          <p:cNvPicPr/>
          <p:nvPr/>
        </p:nvPicPr>
        <p:blipFill>
          <a:blip r:embed="rId2"/>
          <a:stretch/>
        </p:blipFill>
        <p:spPr>
          <a:xfrm rot="5400000">
            <a:off x="-1882080" y="2467440"/>
            <a:ext cx="2000520" cy="17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ИРИНА\Desktop\к конкурсу\nasekomye_063.wmf"/>
          <p:cNvPicPr/>
          <p:nvPr/>
        </p:nvPicPr>
        <p:blipFill>
          <a:blip r:embed="rId3"/>
          <a:stretch/>
        </p:blipFill>
        <p:spPr>
          <a:xfrm rot="20770800">
            <a:off x="6156000" y="-1900080"/>
            <a:ext cx="2500200" cy="155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ИРИНА\Desktop\к конкурсу\nasekomye_034.wmf"/>
          <p:cNvPicPr/>
          <p:nvPr/>
        </p:nvPicPr>
        <p:blipFill>
          <a:blip r:embed="rId4"/>
          <a:stretch/>
        </p:blipFill>
        <p:spPr>
          <a:xfrm>
            <a:off x="6516720" y="189000"/>
            <a:ext cx="1871640" cy="150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Users\ИРИНА\Desktop\к конкурсу\nasekomye_018.wmf"/>
          <p:cNvPicPr/>
          <p:nvPr/>
        </p:nvPicPr>
        <p:blipFill>
          <a:blip r:embed="rId5"/>
          <a:stretch/>
        </p:blipFill>
        <p:spPr>
          <a:xfrm flipH="1">
            <a:off x="755640" y="260280"/>
            <a:ext cx="1285920" cy="1436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ИРИНА\Desktop\к конкурсу\nasekomye_043.wmf"/>
          <p:cNvPicPr/>
          <p:nvPr/>
        </p:nvPicPr>
        <p:blipFill>
          <a:blip r:embed="rId6"/>
          <a:stretch/>
        </p:blipFill>
        <p:spPr>
          <a:xfrm>
            <a:off x="2268360" y="3933720"/>
            <a:ext cx="3719520" cy="177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:\Users\ИРИНА\Desktop\к конкурсу\nasekomye_064.wmf"/>
          <p:cNvPicPr/>
          <p:nvPr/>
        </p:nvPicPr>
        <p:blipFill>
          <a:blip r:embed="rId7"/>
          <a:stretch/>
        </p:blipFill>
        <p:spPr>
          <a:xfrm>
            <a:off x="9252000" y="4897440"/>
            <a:ext cx="2928960" cy="196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Users\ИРИНА\Desktop\к конкурсу\nasekomye_007.wmf"/>
          <p:cNvPicPr/>
          <p:nvPr/>
        </p:nvPicPr>
        <p:blipFill>
          <a:blip r:embed="rId8"/>
          <a:stretch/>
        </p:blipFill>
        <p:spPr>
          <a:xfrm>
            <a:off x="3714840" y="-142920"/>
            <a:ext cx="18144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35 0.13925 C 0.14826 0.02891 0.20017 -0.0812 0.2552 -0.11173 C 0.31024 -0.14227 0.38628 -0.02568 0.42691 -0.04419 C 0.46753 -0.06269 0.44982 -0.20333 0.49878 -0.223 C 0.54774 -0.24266 0.67326 -0.15707 0.721 -0.1617 C 0.76875 -0.16632 0.74809 -0.26116 0.78576 -0.25122 C 0.82343 -0.24127 0.88507 -0.17187 0.94687 -0.10225 E">
                                      <p:cBhvr>
                                        <p:cTn id="3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59 0.09391 C -0.24374 0.01711 -0.33072 -0.05968 -0.40485 -0.0849 C -0.47916 -0.11011 -0.53523 -0.04002 -0.60121 -0.05668 C -0.66735 -0.07333 -0.75676 -0.16702 -0.80121 -0.18506 C -0.84565 -0.2031 -0.83315 -0.16332 -0.86822 -0.1647 C -0.90329 -0.16609 -0.98784 -0.1883 -1.01181 -0.19292 E">
                                      <p:cBhvr>
                                        <p:cTn id="4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72 0.16331 C -0.11285 0.23988 -0.13681 0.31644 -0.17934 0.35299 C -0.22188 0.38931 -0.3033 0.39116 -0.3441 0.38283 C -0.3849 0.37451 -0.39601 0.30372 -0.42396 0.3028 C -0.45191 0.30187 -0.48021 0.33865 -0.51233 0.37613 C -0.54445 0.41452 -0.58073 0.47235 -0.61702 0.53018 E">
                                      <p:cBhvr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0"/>
            <a:ext cx="9144000" cy="2568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а – жа – жа – жа –  мы увидели еж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и – ши – ши – ши – шелестели камыш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у – жу – жу – жу – дали яблоко уж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и – ши – ши – ши – тихо, мышка, не шурш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Звук с компакт-диска 1" descr=""/>
          <p:cNvPicPr/>
          <p:nvPr/>
        </p:nvPicPr>
        <p:blipFill>
          <a:blip r:embed="rId2"/>
          <a:stretch/>
        </p:blipFill>
        <p:spPr>
          <a:xfrm>
            <a:off x="357120" y="292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2d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>
            <a:lum bright="12000"/>
          </a:blip>
          <a:srcRect l="0" t="0" r="1268" b="-4159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nasekomye_044.wmf"/>
          <p:cNvPicPr/>
          <p:nvPr/>
        </p:nvPicPr>
        <p:blipFill>
          <a:blip r:embed="rId2"/>
          <a:stretch/>
        </p:blipFill>
        <p:spPr>
          <a:xfrm>
            <a:off x="1143000" y="2500200"/>
            <a:ext cx="2255760" cy="3643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nasekomye_044.wmf"/>
          <p:cNvPicPr/>
          <p:nvPr/>
        </p:nvPicPr>
        <p:blipFill>
          <a:blip r:embed="rId3"/>
          <a:stretch/>
        </p:blipFill>
        <p:spPr>
          <a:xfrm flipH="1">
            <a:off x="6072120" y="2500200"/>
            <a:ext cx="22557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zvuki_prirod_-_penie_ptic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0"/>
            <a:ext cx="9144000" cy="27954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жды мы с друзьями гуляли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дорожке бежал ёжик с я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рёк подбежал к стогу с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" descr=""/>
          <p:cNvPicPr/>
          <p:nvPr/>
        </p:nvPicPr>
        <p:blipFill>
          <a:blip r:embed="rId2"/>
          <a:stretch/>
        </p:blipFill>
        <p:spPr>
          <a:xfrm>
            <a:off x="328680" y="139680"/>
            <a:ext cx="820584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6:30:17Z</dcterms:created>
  <dc:creator>ИРИНА</dc:creator>
  <dc:description/>
  <dc:language>en-US</dc:language>
  <cp:lastModifiedBy>Teacher1</cp:lastModifiedBy>
  <dcterms:modified xsi:type="dcterms:W3CDTF">2012-02-16T08:37:07Z</dcterms:modified>
  <cp:revision>28</cp:revision>
  <dc:subject/>
  <dc:title>Слайд 1</dc:title>
</cp:coreProperties>
</file>